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EF1-4FA2-4C47-886F-534543A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1D6-05D8-4B85-A7C3-6C27A8A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867-DAB9-4503-A0D3-E79D2071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8E6-5E7A-49B3-BCB3-3D1B65B9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9A3-3F4F-4A35-884D-DCBC61F2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337-69DC-4DAB-BD50-F5528AD8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940-A243-4F96-9A7C-DAE3834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A9E-60E3-4486-9B32-15785EB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21C-90BC-4B34-8CB1-F86F0BC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3E0-086D-4672-8D66-55DB05A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E94-2085-4EC5-8736-E4975B5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F72-FC19-428B-8E56-2983C88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875-A826-4044-9FCD-FA75E4116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9 Očakávaj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mútok a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ní na slas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u n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á nás vla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j Pána, na neho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š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verný je, nikdy neskl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aj búrka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 zasvi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boji skúšo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verný mo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chráni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v ňom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jeho svätým noh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remä odkla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, všetko zlé raz sa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chrancu kto dúf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e nez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verný Bože,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eš deti s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 im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ykroč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d neho,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jší ni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len vždy sa spolie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úbil, že nám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osti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9:07:58Z</dcterms:modified>
  <cp:revision>20</cp:revision>
  <dc:subject/>
  <dc:title>Je veľký náš Pán, on slávy je Kráľ Nech do všetkých strán  spev vrúcnych znie chvál.</dc:title>
</cp:coreProperties>
</file>